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83E5-230F-4BE5-816D-5476AA0BD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EB6C-1802-4F89-B08D-AD0F5CF40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A343-995D-414C-AE8E-C585560B6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B936-B3F0-4E57-B5A1-E87D3C6F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140A-5504-452B-A585-9A6ACAA5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6DB4-C32F-45CF-A24D-F7E8A00E4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66CA-6F53-4F85-A974-22CFA3CE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6955-4F08-4671-9CE9-1FDAB13F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8145-37A6-48ED-A497-E3167866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DBA0-41CD-4157-B2A4-6BFEC92D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C1A8-DD35-47CB-AE51-0A946EDE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C8AB-7CF6-4686-A831-36933192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FC8B-B03D-4CA4-B04F-321F6BA8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392F-F71D-41C8-898C-A38BAE21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A00D-CDC6-4B2E-B3BF-68216ABEF6D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8BCB-9CC8-4434-8AE5-A2DA5B0C63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copaparazzi.ro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uerillaverde.ro/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acebook.com/people/Guerilla-Verde/100000440101230" TargetMode="External"/><Relationship Id="rId3" Type="http://schemas.openxmlformats.org/officeDocument/2006/relationships/hyperlink" Target="http://twitter.com/GuerillaVerde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slideshare.net/GuerillaVerde/guerilla-verde-iii-interpretare-chestionare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hyperlink" Target="http://www.youtube.com/watch?v=wnjx6KETmi4" TargetMode="External"/><Relationship Id="rId8" Type="http://schemas.openxmlformats.org/officeDocument/2006/relationships/hyperlink" Target="file:///C:/Documents%20and%20Settings/Ileana/Local%20Settings/Temporary%20Internet%20Files/Content.Outlook/4WFIP1GS/noimpactman.typepad.com" TargetMode="External"/><Relationship Id="rId9" Type="http://schemas.openxmlformats.org/officeDocument/2006/relationships/hyperlink" Target="http://www.youtube.com/watch?v=ENcV5zeMILs" TargetMode="External"/><Relationship Id="rId10" Type="http://schemas.openxmlformats.org/officeDocument/2006/relationships/hyperlink" Target="http://www.youtube.com/watch?v=G8IozVfph7I" TargetMode="External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43080" y="92880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prima caravana educationala  de film cu mesaj ecologic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din Roma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februarie -  mai 2013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siglaguerilla.jpg"/>
          <p:cNvPicPr/>
          <p:nvPr/>
        </p:nvPicPr>
        <p:blipFill>
          <a:blip r:embed="rId2"/>
          <a:stretch/>
        </p:blipFill>
        <p:spPr>
          <a:xfrm>
            <a:off x="2857680" y="2286000"/>
            <a:ext cx="4092480" cy="1106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8880" y="2138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oncurs foto – video </a:t>
            </a:r>
            <a:br>
              <a:rPr sz="2800"/>
            </a:b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in cadrul </a:t>
            </a: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000160" y="1356840"/>
            <a:ext cx="6757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EcoPaparazzi este un concurs si o platforma de comunicare pentru toti cei interesati de ecologi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Concursul foto - video de "politie verde a bunului simt" se adreseaza tinerilor si nu numai. Se desfasoara in fiecare luna pe </a:t>
            </a:r>
            <a:r>
              <a:rPr b="0" lang="ro-RO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www.ecopaparazzi.ro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. Pot participa fotografii sau filmulete care reflecta modul in care comunitatile locale respecta - sau nu - mediul inconjurator. Se poate inscrie oricine, indiferent de varsta sau localitatea de provenient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La finalul fiecarei editii a concursului, organizatorii vor depune sesizari privind una sau mai multe din problemele semnalate de participantii la concurs catre autoritatle competente. Pe site-ul www.ecopaparazzi.ro va putea fi urmarit in ce stadiu se afla respectivele sesizari – daca au primit un raspuns din partea autoritatilor, daca au fost solutionate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Platforma de comunicare a aparut ca urmare a interesului pe care l-au manifestat cei care au participat la concurs de-a lungul timpului. EcoPaparazzi.ro urmareste sa ofere tuturor celor care il acceseaza o imagine in timp real a problemelor de mediu din Romani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Obiectivul pe termen lung este construirea unei comunitati cu o voce puternica, ce va putea sanctiona relele practici si se va implica in actiuni practice pentru protectia mediulu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pic>
        <p:nvPicPr>
          <p:cNvPr id="103" name="Content Placeholder 3" descr="ecopaparazii aparat foto.jpg"/>
          <p:cNvPicPr/>
          <p:nvPr/>
        </p:nvPicPr>
        <p:blipFill>
          <a:blip r:embed="rId4"/>
          <a:stretch/>
        </p:blipFill>
        <p:spPr>
          <a:xfrm>
            <a:off x="5857920" y="214200"/>
            <a:ext cx="310500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Conta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4308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Nicoleta Tal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anaging Dir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edia Image Facto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nicoleta.talpes@imagefactory.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cel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0724 314 04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ph/fax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031.10. 74.17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contact@guerillaverde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www.guerillaverde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www.imagefactory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0504d"/>
                </a:solidFill>
                <a:latin typeface="Calibri"/>
              </a:rPr>
              <a:t>Comment &amp; Like pe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Facebo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Retweet: </a:t>
            </a:r>
            <a:r>
              <a:rPr b="0" lang="fr-FR" sz="1600" spc="-1" strike="noStrike">
                <a:solidFill>
                  <a:srgbClr val="c0504d"/>
                </a:solidFill>
                <a:latin typeface="Calibri"/>
              </a:rPr>
              <a:t>@GuerillaVer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4308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arteneri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stimoniale partener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uerilla Verde –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ani,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edit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dentitate vizua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raseu si fil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Ecopaparazz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ta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2" descr="siglaguerilla.jpg"/>
          <p:cNvPicPr/>
          <p:nvPr/>
        </p:nvPicPr>
        <p:blipFill>
          <a:blip r:embed="rId2"/>
          <a:stretch/>
        </p:blipFill>
        <p:spPr>
          <a:xfrm>
            <a:off x="8215200" y="71280"/>
            <a:ext cx="928800" cy="35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28880" y="2138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onceptul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000160" y="1356840"/>
            <a:ext cx="6757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i="1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o-RO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guerillaverde.ro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)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face parte dintr-un proiect mai amplu, denumit generic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BET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(Better Education Through Innovation), care isi propune sa contribuie la educatia generatiei de maine prin intermediul filmulu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e prima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ravana educationala de filme cu mesaj ecologic, initiativa Media Image Factory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, agentie de comunicare specializata in dezvoltarea de proiecte social-cu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tur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Proiectul se deruleaza sub egida Ministerul Mediului, Ministeril Educatiei si  cu sprijinul primariilor oraselor gazd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NOU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ticipantii la proiectii care vor aduce carti/filme/articole cu teme eco vor primi bilete la tombola, unde vor avea ocazia de a castiga premii verzi (de ex. biciclete, articole sportive etc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rea si dezvoltare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lubului Guerilla V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de, format din cadre didacti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re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logulu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unde va fi tinut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jurnalul cara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ei si vor fi posturi in egala masura ale organizatorilor, dar si ale voluntarilor, ale profesorilor si ale elevil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3" descr="siglaguerilla.jpg"/>
          <p:cNvPicPr/>
          <p:nvPr/>
        </p:nvPicPr>
        <p:blipFill>
          <a:blip r:embed="rId3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re 1"/>
          <p:cNvSpPr/>
          <p:nvPr/>
        </p:nvSpPr>
        <p:spPr>
          <a:xfrm>
            <a:off x="1357200" y="4287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Partener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11"/>
          <p:cNvSpPr/>
          <p:nvPr/>
        </p:nvSpPr>
        <p:spPr>
          <a:xfrm>
            <a:off x="5105520" y="603396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Century"/>
              </a:rPr>
              <a:t>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Century"/>
              </a:rPr>
              <a:t>un proiec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PARTENERI GV.png"/>
          <p:cNvPicPr/>
          <p:nvPr/>
        </p:nvPicPr>
        <p:blipFill>
          <a:blip r:embed="rId2"/>
          <a:stretch/>
        </p:blipFill>
        <p:spPr>
          <a:xfrm>
            <a:off x="3286080" y="-4680"/>
            <a:ext cx="51436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e spun partenerii nostri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643040" y="1500120"/>
            <a:ext cx="35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Proiectul </a:t>
            </a:r>
            <a:r>
              <a:rPr b="0" i="1" lang="it-IT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 se potriveste perfect cu misiunea UPC de Responsabilitate Sociala, aceea de a investi in educatia copiilor pentru a-i ajuta sa isi construiasca un viitor mai bun. Prin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implicarea sa in toate aspectele care privesc copiii de astazi, inclusiv constientizarea mediului inconjurator, UPC Romania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doreste sa trasforme mediul educational intr-un colt verde de care sa se poata bucura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initiativa educativa si ecologica inedita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ezinta o continuare naturala a misiunii noastre, unde ne unim forţele cu partenerii nostrii de proiect pentru o cauza buna.” declar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riana Badin – PR &amp; Communication Manager UPC Rom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ontent Placeholder 2"/>
          <p:cNvSpPr/>
          <p:nvPr/>
        </p:nvSpPr>
        <p:spPr>
          <a:xfrm>
            <a:off x="5315040" y="1285920"/>
            <a:ext cx="325764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Tetra Pak este lider mondial in randul companiilor furnizoare de soluţii de procesare şi ambalare a alimentelor lichide.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Ne asumam cu responsabilitate aceasta pozitie, generand crestere in armonie cu principiile sustenabilitatii. Motto-ul nostru “PROTEJEAZA CE E BUN” reflectă viziunea noastră de a oferi alimente sigure şi disponibile oriunde, dar si actiuni de educare in spiritul protectiei mediului. Credem ca numai deprinderea de a colecta selectiv poate contribui la o mai buna gestionare a resurselor planetei. </a:t>
            </a:r>
            <a:r>
              <a:rPr b="0" i="1" lang="it-IT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 ne ajuta sa punem in practica motto-ul nostru, prin formarea unei bune conduite sociale in randul tinerei generatii.”  declar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aniela Cirmaciu – Responsabil Comunicare si Mediu, Tetra Pak South Eastern Eu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Identitate vizu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357280" y="5714640"/>
            <a:ext cx="642960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isel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uerilla Verde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I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a si a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a edit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2071800" y="1071720"/>
            <a:ext cx="3095640" cy="442116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70" name="Picture 10" descr="siglaguerilla.jpg"/>
          <p:cNvPicPr/>
          <p:nvPr/>
        </p:nvPicPr>
        <p:blipFill>
          <a:blip r:embed="rId3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AFIS A3 Guerilla.jpg"/>
          <p:cNvPicPr/>
          <p:nvPr/>
        </p:nvPicPr>
        <p:blipFill>
          <a:blip r:embed="rId5"/>
          <a:stretch/>
        </p:blipFill>
        <p:spPr>
          <a:xfrm>
            <a:off x="5500800" y="1214280"/>
            <a:ext cx="30002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dupa 3 ani de la lans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1472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6 editii organizate in cei 3 ani de la lans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4. 100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de participanti - target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tineri, elevi, autoritati, presa, partene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filme proiectate, avand mesaj ecologic education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scol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licee si  14 universitati din toata ta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de oras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.000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materiale informative distribu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52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partener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00 Facebook frien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5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aparitii media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print, online, radio, TV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www.guerillaverde.ro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FaceBook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Twit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8" descr="siglaguerilla.jpg"/>
          <p:cNvPicPr/>
          <p:nvPr/>
        </p:nvPicPr>
        <p:blipFill>
          <a:blip r:embed="rId4"/>
          <a:stretch/>
        </p:blipFill>
        <p:spPr>
          <a:xfrm>
            <a:off x="8001000" y="0"/>
            <a:ext cx="1143000" cy="439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logo"/>
          <p:cNvPicPr/>
          <p:nvPr/>
        </p:nvPicPr>
        <p:blipFill>
          <a:blip r:embed="rId5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143080" y="1285560"/>
            <a:ext cx="6757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erioad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februarie  – mai 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biecti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determinarea tinerilor sa aiba initiative concrete pentru protectia mediului. Invitatia de participare la proiectiile de filme cu mesaj ecologic oferite de organizatori reprezinta punctul de pornire in acest sen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fasurar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iecare proiectie este insotita de dialogul dintre ONG-urile de mediu nationale si locale, care vor indruma tinerii catre un comportament ecologic corect si catre actiuni de voluntaria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Locatii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itatile de invatamant mediu si superior (scoli, licee, facultati)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, sali de cinema sau sali improvizate.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ccesul publicului este liber.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In cadrul editiei din 2013 accesul publicului se va face in schimbul unei doze de aluminiu si/sau a unei bateri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e parcursul celei de-a treia editii a fost efectuat un sondaj privind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comportamentul tinerilor fata de mediu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Rezultatele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sondajul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nt disponibil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aic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928880" y="1356840"/>
            <a:ext cx="6378480" cy="10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Traseu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caravana Guerilla Verde:  Bacau, Focsani, Buzau Ploiesti, Bucure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Filme : 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vor fi proiectate filme care au legatura cu tipul de deseu aflat in discutie – dozele de alumini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rintre filmele difuzate in editiile anterioare, se numar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No-impact-man"/>
          <p:cNvPicPr/>
          <p:nvPr/>
        </p:nvPicPr>
        <p:blipFill>
          <a:blip r:embed="rId3"/>
          <a:stretch/>
        </p:blipFill>
        <p:spPr>
          <a:xfrm>
            <a:off x="2187720" y="3286080"/>
            <a:ext cx="1527120" cy="22287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4452480" y="243000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548dd4"/>
                </a:solidFill>
                <a:latin typeface="Calibri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An Inconvenient Truth.jpg"/>
          <p:cNvPicPr/>
          <p:nvPr/>
        </p:nvPicPr>
        <p:blipFill>
          <a:blip r:embed="rId4"/>
          <a:stretch/>
        </p:blipFill>
        <p:spPr>
          <a:xfrm>
            <a:off x="4000680" y="3429000"/>
            <a:ext cx="1357200" cy="1928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The 11th Hour.jpg"/>
          <p:cNvPicPr/>
          <p:nvPr/>
        </p:nvPicPr>
        <p:blipFill>
          <a:blip r:embed="rId5"/>
          <a:stretch/>
        </p:blipFill>
        <p:spPr>
          <a:xfrm>
            <a:off x="5572080" y="3357720"/>
            <a:ext cx="1285920" cy="206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Home.jpg"/>
          <p:cNvPicPr/>
          <p:nvPr/>
        </p:nvPicPr>
        <p:blipFill>
          <a:blip r:embed="rId6"/>
          <a:stretch/>
        </p:blipFill>
        <p:spPr>
          <a:xfrm>
            <a:off x="7120080" y="3357720"/>
            <a:ext cx="1380960" cy="20872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4438080" y="269676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38080" y="505872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438080" y="742104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0" y="989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3952800" y="5429160"/>
            <a:ext cx="165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An Inconvenient Th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1"/>
          <p:cNvSpPr/>
          <p:nvPr/>
        </p:nvSpPr>
        <p:spPr>
          <a:xfrm>
            <a:off x="2373480" y="5500800"/>
            <a:ext cx="114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No Impact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2"/>
          <p:cNvSpPr/>
          <p:nvPr/>
        </p:nvSpPr>
        <p:spPr>
          <a:xfrm>
            <a:off x="5728320" y="542916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The 11th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3"/>
          <p:cNvSpPr/>
          <p:nvPr/>
        </p:nvSpPr>
        <p:spPr>
          <a:xfrm>
            <a:off x="7512840" y="5429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logo"/>
          <p:cNvPicPr/>
          <p:nvPr/>
        </p:nvPicPr>
        <p:blipFill>
          <a:blip r:embed="rId11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sp>
        <p:nvSpPr>
          <p:cNvPr id="99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i="1" lang="ro-RO" sz="28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9:52:38Z</dcterms:created>
  <dc:creator>Eric</dc:creator>
  <dc:description/>
  <dc:language>en-US</dc:language>
  <cp:lastModifiedBy>nic</cp:lastModifiedBy>
  <dcterms:modified xsi:type="dcterms:W3CDTF">2013-02-04T09:46:15Z</dcterms:modified>
  <cp:revision>328</cp:revision>
  <dc:subject/>
  <dc:title>PRESENTATION  NAME</dc:title>
</cp:coreProperties>
</file>